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CB3-6AA1-4C51-81BF-793877D2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F67-A1DB-49DF-A3FD-E8E3754C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1F3-E3B8-4A57-B3F4-B1FFCB45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2DF-6FA3-4718-BCF7-4E4158A0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E70-148C-4F84-B978-E50CEC53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7AC-5FC0-48E9-A8E4-8C4638C6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8C1-0D19-45C2-AC54-D9B167AC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F4E-078E-48B3-B732-25779208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F8C-B923-4418-A5E6-5935181A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C25-3310-4840-978A-B9E0EB94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21A-F596-42E1-959C-599E9685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ABC-80E7-4AC2-A2EB-DD52C24C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711A-729D-4F43-B9C4-743FFF67F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e King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Old Kingdom, what did the merchants find at the Mediterranean, and what did they use it for? Give two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iddle Kingdom, what did Pharaoh’s spend the nation’s wealth on, and instead of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as the marking point of the New Kingdom sta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was buried with very precious things? What did those things teach us a lot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did the Old Kingdom Pharaoh’s keep peace with, and what else did they do with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8:45:38Z</dcterms:created>
  <dc:creator>Default</dc:creator>
  <dc:description/>
  <dc:language>en-US</dc:language>
  <cp:lastModifiedBy>Default</cp:lastModifiedBy>
  <dcterms:modified xsi:type="dcterms:W3CDTF">2009-01-14T18:39:14Z</dcterms:modified>
  <cp:revision>2</cp:revision>
  <dc:subject/>
  <dc:title>Test</dc:title>
</cp:coreProperties>
</file>